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8A08-C7DA-484E-BDE1-8EE37E50F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7D24-148A-426C-9591-7DB131CD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EDFE-D964-4C25-BCCD-208E93C55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662B-A939-413C-88B8-BBCFED6B0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F219-D682-4AFA-9F8D-A849EEF0B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9555-CF12-4384-9930-81020DE7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047B-4FA3-4F22-BA45-560898D6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ADE8-592C-4AC1-A0E0-DE8B3CF4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FE7A-A0C7-42ED-B678-E30E6D98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0B86-7C1F-4775-9F3D-27E61561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03B6-A314-4E9F-9E46-E815FB66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567E-8F03-42F7-872C-C2505207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1F036-A14F-4259-83BF-51EFB699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FBA7-C195-4C17-ADBF-5CAFAAF0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8809-29BD-411D-8623-BFB7D68F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7DA0-D85C-4A3D-ADF6-18715D36E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FFBE-5082-4505-8839-B280B0F23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90C8-077D-427E-B0DC-FEEF913E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AA35-4595-43F6-841C-6DB326C5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A17D-CAEE-4FE4-9A88-9CFD5D01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F46E-6203-4E6B-A821-955DF80C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64CF-CAAC-42DB-AD09-512EFB86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7A65-E466-4703-849B-E2BBD5F5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AD6E-6F22-4FA2-A9F3-744D7CB9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8970-4ECF-49DC-ACB1-7A9A0CB99E6C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94A3-4881-4A7A-8DB5-6F2BB4F132EA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ambulatoriocronicita@aslcn2.it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PERCORSI CRONICITA’ : AGGIORN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2160" y="4267080"/>
            <a:ext cx="22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0066"/>
                </a:solidFill>
                <a:latin typeface="Arial"/>
              </a:rPr>
              <a:t>A. Gianti, Distrett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8520" y="1447920"/>
            <a:ext cx="425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9999"/>
                </a:solidFill>
                <a:latin typeface="Arial"/>
              </a:rPr>
              <a:t>Ospedale M.P. Ferrero, VERDUNO, 4 Giugno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1126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669999"/>
                </a:solidFill>
                <a:latin typeface="Arial"/>
              </a:rPr>
              <a:t>ASLCN2                                RIUNIONE CONGIUNTA  DI EQUI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rvizi attivi nelle CDC HUB (Alba e Bra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Ambulatorio Cronicità (+geriatra di distrett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Ambulatorio Scompenso Cardiac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Ambulatorio Pneumolog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Ambulatorio Infermieristico di Medicina di Inizia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Ambulatorio CDCD (Centro Diagnosi e Cura Demenz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Ambulatorio Nefrologia (</a:t>
            </a:r>
            <a:r>
              <a:rPr b="0" i="1" lang="it-IT" sz="3000" spc="-1" strike="noStrike">
                <a:solidFill>
                  <a:srgbClr val="000000"/>
                </a:solidFill>
                <a:latin typeface="Arial"/>
              </a:rPr>
              <a:t>solo CDC Alba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U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28600" y="6854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0066"/>
                </a:solidFill>
                <a:latin typeface="Arial"/>
              </a:rPr>
              <a:t>AMBULATORIO CRONICITA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3300"/>
                </a:solidFill>
                <a:latin typeface="Arial"/>
              </a:rPr>
              <a:t>Email:  </a:t>
            </a:r>
            <a:r>
              <a:rPr b="0" lang="it-IT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ambulatoriocronicita@aslcn2.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3300"/>
                </a:solidFill>
                <a:latin typeface="Arial"/>
              </a:rPr>
              <a:t>Referente dr.ssa Gianti: 331 6802880 </a:t>
            </a:r>
            <a:r>
              <a:rPr b="0" lang="it-IT" sz="3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ff3300"/>
                </a:solidFill>
                <a:latin typeface="Arial"/>
              </a:rPr>
              <a:t>    (interno 189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No CUP, No Accesso Dirett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5438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900" spc="-1" strike="noStrike">
                <a:solidFill>
                  <a:srgbClr val="330066"/>
                </a:solidFill>
                <a:latin typeface="Arial"/>
              </a:rPr>
              <a:t>Attivita’ ambulatorio cronicità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sa in carico del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aziente cronic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mbulatoriale e/o domicili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AGNOSTICA AMBULATORIALE E A DOMICI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Possibilità di esecuzione </a:t>
            </a:r>
            <a:r>
              <a:rPr b="0" lang="it-IT" sz="2000" spc="-1" strike="noStrike" u="sng">
                <a:solidFill>
                  <a:srgbClr val="ff0000"/>
                </a:solidFill>
                <a:uFillTx/>
                <a:latin typeface="Arial"/>
              </a:rPr>
              <a:t>prelievi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 facilitati per esami ematici, incluso E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f0000"/>
                </a:solidFill>
                <a:uFillTx/>
                <a:latin typeface="Arial"/>
              </a:rPr>
              <a:t>Terapie di supporto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 se il pz ha necessità o non riesce in autonomia (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ferro ev, folina ev,  dobetin im, LMWH sc, epo sc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f0000"/>
                </a:solidFill>
                <a:uFillTx/>
                <a:latin typeface="Arial"/>
              </a:rPr>
              <a:t>Terapie indicate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 dal medico specialista inviante: (es.Alendronato, Corticosteroidi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2000" spc="-1" strike="noStrike" u="sng">
                <a:solidFill>
                  <a:srgbClr val="ff0000"/>
                </a:solidFill>
                <a:uFillTx/>
                <a:latin typeface="Arial"/>
              </a:rPr>
              <a:t>Vaccinazioni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(Covid, Flu, HZV ,Pneumo, su soggetti ≥18 a R, e secondo le coorti di nascita indic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stribuzione diretta farmaci in accordo con farmacia per contenimento spesa (Ep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ssistenza/segnalazione rinnovi PT (es Ossigenoterap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duzione DEMA per visite/esami con contatto diretto per prenotazione in PSDTA o altri percorsi aziend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tatto con Servizi Soci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62012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UCA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UNITA’ DI CONTINUITA’ ASSISTENZIALE (UC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DM 77/2022</a:t>
            </a:r>
            <a:r>
              <a:rPr b="1" lang="it-IT" sz="1500" spc="-1" strike="noStrike">
                <a:solidFill>
                  <a:srgbClr val="0000ff"/>
                </a:solidFill>
                <a:latin typeface="Arial"/>
              </a:rPr>
              <a:t>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Un’équipe mobile distrettuale per la gestione e il supporto della presa in carico di individui, o di comunità, che versano in condizioni clinico-assistenziali di particolare complessità e che comportano una comprovata difficoltà operativ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ff"/>
                </a:solidFill>
                <a:latin typeface="Arial"/>
              </a:rPr>
              <a:t>Standard: 1 medico e 1 infermier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ogni 100.000 abitanti, che operano sul territorio di riferimento anche attraverso l’utilizzo di strumenti di telemedicina (es. televisita e teleassistenza) e in </a:t>
            </a:r>
            <a:r>
              <a:rPr b="0" lang="it-IT" sz="1600" spc="-1" strike="noStrike">
                <a:solidFill>
                  <a:srgbClr val="0000ff"/>
                </a:solidFill>
                <a:latin typeface="Arial"/>
              </a:rPr>
              <a:t>collaborazione con MMG e PLS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elle AFT/UCCP. Al fine di svolgere la propria attività l’UCA può usufruire del supporto a distanza (teleconsulto) di specialisti del territorio ed ospedalier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ff"/>
                </a:solidFill>
                <a:latin typeface="Arial"/>
              </a:rPr>
              <a:t>L’UCA non sostituisce ma supporta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ff"/>
                </a:solidFill>
                <a:latin typeface="Arial"/>
              </a:rPr>
              <a:t>per un tempo defini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i professionisti responsabili della presa in carico del paziente e della comunità. Essa </a:t>
            </a:r>
            <a:r>
              <a:rPr b="0" lang="it-IT" sz="1600" spc="-1" strike="noStrike">
                <a:solidFill>
                  <a:srgbClr val="0000ff"/>
                </a:solidFill>
                <a:latin typeface="Arial"/>
              </a:rPr>
              <a:t>può essere attivata in presenza di condizioni clinico assistenziali di particolare complessità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L’UCA deve essere dotata di un sistema integrato comprendente una moderna infrastruttura di telemedicina </a:t>
            </a:r>
            <a:r>
              <a:rPr b="0" lang="it-IT" sz="1600" spc="-1" strike="noStrike">
                <a:solidFill>
                  <a:srgbClr val="0000ff"/>
                </a:solidFill>
                <a:latin typeface="Arial"/>
              </a:rPr>
              <a:t>collegata alle COT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ed accessibile via internet al fine di garantire anche in teleconsulto interoperabilità della rete di consulenti collegati; deve essere dotata inoltre di strumentazione avanzata di primo livello e di una gamma completa di dispositivi medici portatili (anche diagnostici) in grado di acquisire informazioni e parametri necessari al monitoraggio delle condizioni cliniche del pazi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ff"/>
                </a:solidFill>
                <a:latin typeface="Arial"/>
              </a:rPr>
              <a:t>La sede operativa dell’UCA è la Casa della Comunità </a:t>
            </a:r>
            <a:r>
              <a:rPr b="0" i="1" lang="it-IT" sz="1600" spc="-1" strike="noStrike">
                <a:solidFill>
                  <a:srgbClr val="0000ff"/>
                </a:solidFill>
                <a:latin typeface="Arial"/>
              </a:rPr>
              <a:t>hub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lla quale afferisce anche dal punto di vista organizzativ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UCA- ASLCN2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Dal 1° MAGGIO 2024: UNITA’ DI CONTINUITA’ ASSISTENZIALE (UC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NB: Fase Iniziale: Fascia Oraria 16-20.00 FERI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6324480" cy="4033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630480" y="6172200"/>
            <a:ext cx="191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0000ff"/>
                </a:solidFill>
                <a:latin typeface="Arial"/>
              </a:rPr>
              <a:t>Copyright Dalmasso/Gone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5-15T13:51:42Z</dcterms:created>
  <dc:creator>Gianti Dott.ssa Annamaria</dc:creator>
  <dc:description/>
  <dc:language>en-US</dc:language>
  <cp:lastModifiedBy>agianti</cp:lastModifiedBy>
  <dcterms:modified xsi:type="dcterms:W3CDTF">2024-05-16T10:30:23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